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9C6D-FE42-40EC-9C5B-8F3065AF80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5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72D8-A759-41AE-8971-40F1448B32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6E31-DF8A-4AEA-8D79-FE8C843788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F02B-BFD9-4979-9A8E-F0F87D4B0A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BBE7-9A0E-4D80-8BE6-EE263AA5BE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BEFB-A35B-43FC-B0C5-9489B1E69B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8BF4-2038-440F-8DDE-4B77FFD20C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5F68-A0F7-420C-970A-A39779FCC5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7F73-C730-491D-9520-22DEE81DB6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75E5-B9D8-4ADA-822A-4BD1876866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C0F4-EE12-4381-A3DC-70C2D6B3B3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D68F-9401-4E71-BD18-E803BBE2E6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4961-3408-4DC4-9AE3-A59B7096BB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F67C-C019-4A7C-ABC9-A6A08D5614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AA44-0C4C-408E-BE38-C47A736DA3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3073-3A97-476B-AAAF-55EA1F0922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A266-BEAA-44C8-B84D-E35EAD33A6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57C1-C39E-4C44-9940-B17A6DB451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14680" y="571680"/>
            <a:ext cx="66434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6643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5600" y="35676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071520"/>
            <a:ext cx="70005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l. číslo: 234 814 1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43040" y="642600"/>
            <a:ext cx="71438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85716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7855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23T12:20:39Z</dcterms:modified>
  <cp:revision>256</cp:revision>
  <dc:subject/>
  <dc:title>Snímek 1</dc:title>
</cp:coreProperties>
</file>